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5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media/image10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8A58-D1BE-4DCE-BB4B-204743240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CAF6-1316-4B85-B189-C7165B52F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58DE0E-C020-466F-AE68-570CFB969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01F6B3-4C4A-410B-8026-EC213C5AD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FFDEEF-6892-4F80-9131-934453324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226C92-E7D2-4DF1-A0C4-A790E661C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0EDA20-8ED8-4C4A-AD3C-44112B909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8B27B3-6896-48C9-963B-38B2410F7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1C167A-BACF-4950-A7DF-B541F8F50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FD5C97-3918-4FE3-A683-BFDB4778A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68B94C-2504-48B3-80A4-1F4B704A7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3F24-F84F-4CD2-85CF-5C7B2AAEB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2BD6-8A54-40A5-9CA1-EBE2BB3E3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11302-4626-45C1-BCD9-DE3F61560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F31F0-E231-45F1-8112-BE28B1ACA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E65EF-D846-462C-9428-0AD5C39E1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1E228-1ABE-4B59-B3B7-23BC0310E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F7CDA-11E9-419B-AE33-F5371B76B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3A17F-E556-400C-BE54-E56D4204B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893E8-5638-455D-99D6-3D19CB763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C3F1-CF24-4D99-B27E-B5C75ED7E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B4A07-724B-423E-96F7-D1540CED0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993B2-97F8-474B-9EC5-BC4EAB11D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19894-162B-46D5-AAD4-B3CA3D6D2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8AF42-9488-48C3-9A14-AA6E2B019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0F2B2-76F8-41ED-8187-05430F6B2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69A376-9928-4497-A9E6-1FE578974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ABB987-72CB-4BF6-9D4D-8FAB26696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38D9E3-512F-44CF-8D55-6192ACCAD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DAD163-BDA8-40AC-9752-E5F968A99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FD6FDE-530A-4F52-93EC-77E9E5CB0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C6F4-54F8-4042-9BBD-C57193C5F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706CAB-A386-4DA7-886D-4FDB2F250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388687-5D79-4A50-AF3B-B7E4F336E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DAAFE4-D4A7-40A7-946D-F4978823F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CBF1E8-B035-4890-BB37-E17A4CD8C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7CB4F2-3832-4B9E-B8AC-07BC31B53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01E6B2-1787-4720-B395-3CA78DA75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51A295-2D45-4D33-B288-5F2B29667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73055BA-894D-41D1-9622-60DEF1187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19EA66D-AB1D-4846-8548-7AF64581A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0C93AFD-FF60-4D92-A678-80CA1EEB7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E007-A021-49E8-9E08-16FECC77E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02D1F27-92A6-4F29-BA6A-F8D32C0A6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B239EB3-8195-49EB-868C-C4830098F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E236BA1-57CE-44AD-95FF-D210FEAF7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F2EFFB8-9EFC-4C33-B151-6F6DFE835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6A74390-62E2-4F01-BC73-E1C9B3474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700BB12-1FC9-4A5C-B5CE-5ACB0A0D0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833C0D1-AB54-4B73-BDE7-FFE91D4F5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9905E75-1CD7-4E55-808F-DB6FF2C14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1B86CD2-6E48-4C5A-94C7-983639480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0455F4-3DBF-47B1-BA8A-5173C4415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A86E-237D-494D-A33F-36772055A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80BCDB-2A20-4D14-9052-FF4183E08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E486FC-9C7C-44BC-8E58-7C7F55DB6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74CD5F-C0F0-40EE-8FDB-BE8A2F12E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DBBD78-97D7-4EF9-BA83-4638E97ED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387AB7-666F-4865-B884-AD3C58EB2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054D29-CE96-49D4-A277-AC9163B29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5517B9-9806-4D98-B83B-744490B95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9BDD12-F840-498C-BE7C-3F6A675F6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2B7D09-4AF3-465F-B135-3754EC5AB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D2088A-8802-479E-8678-A72E03451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A63E-F18D-441B-B680-06DE85F80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6607DC1-9DA3-4F34-9CCC-D094473F3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58C5E1F-B55A-433A-B593-80389D216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1379762-3614-4767-9D09-126FAFA6A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4BFF0B5-4318-4E0F-835E-58C3C70FE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708F3DD-F083-4995-B9DE-374BC6A20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037E138-46DA-4EF3-8FBE-6513934E8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0D9AF3-347A-40E5-9B23-FF29B9302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DE560AB-38FB-4092-9496-AF7D09098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0F7453F-F26A-4EFF-BBF8-011B9BC59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D1DCBE8-630D-42BF-AB01-30500E771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25BC-89AE-4601-A571-4AE1E68B6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D5717F6-686C-44E2-95E1-24DE11803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8C9A446-BAE0-47EE-AC87-E7A9A92FE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6DC8A18-D0A7-49AD-A6D1-3AEC07169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295B5D-CAD1-4897-AD03-F83583715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294690-CDC7-4C7F-8B78-700DEC2F4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9C7AD9-08B2-48C1-953F-0FE305F9E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B0429A-925D-47D4-B43C-0E1A8378A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A33C2E-F011-462B-849E-D9E8B5CFA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5A64AD-BF1E-4889-8454-B1B91D5EF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0A1ADD-4796-4AB5-81B3-FCAB1F567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1E94-A56F-4F75-A282-E3BBE1A9E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9FEDE1-B441-420E-A69C-D4DEEA81E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A1096B-B28E-4007-8D71-E7B635223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7DAC4D-044B-48D6-8E7E-A83F45527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429AF8-68E5-40B0-8A4D-9B5C0F458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0D673E-0A9F-4B9B-BAAD-D492E0777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08059DC-C51F-45AE-AB71-C8FA9E0AE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64EA9A6-FF36-4002-BACA-4D119931A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D94B3EA-6D5B-4B5A-917E-75E3085A5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53490B8-DE9F-488C-B155-4A7AC1B8B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A9A9710-CC9F-4B5B-B7D6-9F77FE198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32D6-6B96-4F58-B20E-9A1B68304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D5CBB66-98BA-42D4-B761-43B3FB64C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1CE5793-F218-4DAD-9FEA-DF24DF4A4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61A8571-7D56-4BEF-8962-09931757F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1620869-8CAF-40E9-9C40-AFB624AC6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87FF5FE-4AC9-4BAD-91B2-E05AB7CF6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51EC641-F93C-49C2-A404-5D705F264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E4D752F-C128-433C-9E20-FA4CD9D91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879445-018D-4C8A-AE4F-B18C5A890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6A8BDD-A7EA-403D-AE9C-40F4BE942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477215-F38B-4A1B-ABD8-AE872759F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dc3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8A1DF-BE59-4896-A98E-0797CEEEB5A8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308A6-35C7-4F47-BBD2-2C9D842CC0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4DF34-9171-4ECD-99E9-1EC5DE6B4DD1}" type="slidenum">
              <a:rPr b="1" lang="en-US" sz="1400" spc="-1" strike="noStrike">
                <a:solidFill>
                  <a:srgbClr val="ebddc3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dc3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sldNum" idx="11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04E7D-217F-4B95-BCDF-07ECEAB0F327}" type="slidenum">
              <a:rPr b="1" lang="en-US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dc3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8D4CC-07C1-4B63-9906-DFE3FBD7B11F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dc3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sldNum" idx="17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6722E-084B-4D4E-8088-94FE9E57546B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ftr" idx="18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dc3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0F394-8A27-48D9-87D1-C2228415DC0A}" type="slidenum">
              <a:rPr b="1" lang="en-US" sz="1400" spc="-1" strike="noStrike">
                <a:solidFill>
                  <a:srgbClr val="ebddc3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22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dc3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23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D4D84-8817-41CD-A1F7-D9F56895987E}" type="slidenum">
              <a:rPr b="1" lang="en-US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24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dt" idx="25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dc3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 type="ftr" idx="26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 type="sldNum" idx="27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6BB2B-D19C-4784-8557-E2FBAC1ECAD2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sheppardsoftware.com/web_games.htm" TargetMode="External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mrdonn.org/" TargetMode="External"/><Relationship Id="rId2" Type="http://schemas.openxmlformats.org/officeDocument/2006/relationships/hyperlink" Target="http://www.timeforkids.com/" TargetMode="Externa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funology.com/laboratory" TargetMode="External"/><Relationship Id="rId2" Type="http://schemas.openxmlformats.org/officeDocument/2006/relationships/hyperlink" Target="http://www.funology.com/laboratory" TargetMode="External"/><Relationship Id="rId3" Type="http://schemas.openxmlformats.org/officeDocument/2006/relationships/hyperlink" Target="http://www.sciencenewsforkids.org/" TargetMode="External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mathplayground.com/" TargetMode="External"/><Relationship Id="rId2" Type="http://schemas.openxmlformats.org/officeDocument/2006/relationships/hyperlink" Target="http://www.carrotsticks.com/" TargetMode="External"/><Relationship Id="rId3" Type="http://schemas.openxmlformats.org/officeDocument/2006/relationships/hyperlink" Target="http://www.coolmath-games.com/" TargetMode="External"/><Relationship Id="rId4" Type="http://schemas.openxmlformats.org/officeDocument/2006/relationships/hyperlink" Target="http://www.ixl.com/" TargetMode="External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loyolapress.com/" TargetMode="External"/><Relationship Id="rId2" Type="http://schemas.openxmlformats.org/officeDocument/2006/relationships/hyperlink" Target="http://www.cptryon.org/prayer/child/stations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kerpoof.com/" TargetMode="External"/><Relationship Id="rId2" Type="http://schemas.openxmlformats.org/officeDocument/2006/relationships/hyperlink" Target="http://www.quizlet.com/" TargetMode="External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tinyurl.com/askvfs" TargetMode="External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ddc3"/>
                </a:solidFill>
                <a:latin typeface="Tw Cen MT"/>
              </a:rPr>
              <a:t>TEACHING THE TECHIE TWEENS</a:t>
            </a:r>
            <a:endParaRPr b="0" lang="en-US" sz="40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Gabby Francis &amp; Amy Krier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393" name="Picture 2" descr="C:\Documents and Settings\afaith\Local Settings\Temporary Internet Files\Content.IE5\G0JSG9B0\MP900446602[1].jpg"/>
          <p:cNvPicPr/>
          <p:nvPr/>
        </p:nvPicPr>
        <p:blipFill>
          <a:blip r:embed="rId1"/>
          <a:stretch/>
        </p:blipFill>
        <p:spPr>
          <a:xfrm>
            <a:off x="2057400" y="1828800"/>
            <a:ext cx="4876920" cy="37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057400" y="0"/>
            <a:ext cx="5565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ebddc3"/>
                </a:solidFill>
                <a:latin typeface="Tw Cen MT"/>
              </a:rPr>
              <a:t>Social Studies</a:t>
            </a:r>
            <a:endParaRPr b="0" lang="en-US" sz="40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www.jeopardylabs.com 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f7b615"/>
                </a:solidFill>
                <a:uFillTx/>
                <a:latin typeface="Tw Cen MT"/>
                <a:hlinkClick r:id="rId1"/>
              </a:rPr>
              <a:t>http://www.sheppardsoftware.com/web_games.htm</a:t>
            </a:r>
            <a:r>
              <a:rPr b="0" lang="en-US" sz="2900" spc="-1" strike="noStrike">
                <a:solidFill>
                  <a:srgbClr val="ffc000"/>
                </a:solidFill>
                <a:latin typeface="Tw Cen MT"/>
              </a:rPr>
              <a:t> 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ddc3"/>
                </a:solidFill>
                <a:latin typeface="Tw Cen MT"/>
              </a:rPr>
              <a:t>Both websites are great to help the students practice the U.S. landforms, states, and capitals.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435" name="Picture 5" descr="C:\Users\Gabby\AppData\Local\Microsoft\Windows\Temporary Internet Files\Content.IE5\S8SF7BLE\MC900174377[1].wmf"/>
          <p:cNvPicPr/>
          <p:nvPr/>
        </p:nvPicPr>
        <p:blipFill>
          <a:blip r:embed="rId2"/>
          <a:stretch/>
        </p:blipFill>
        <p:spPr>
          <a:xfrm>
            <a:off x="6172200" y="1752480"/>
            <a:ext cx="1828800" cy="14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4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4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Social Studies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609120" y="1523520"/>
            <a:ext cx="81536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f7b615"/>
                </a:solidFill>
                <a:uFillTx/>
                <a:latin typeface="Tw Cen MT"/>
                <a:hlinkClick r:id="rId1"/>
              </a:rPr>
              <a:t>www.mrdonn.org</a:t>
            </a: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 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ddc3"/>
                </a:solidFill>
                <a:latin typeface="Tw Cen MT"/>
              </a:rPr>
              <a:t>This is a wonderful website to explore for power points!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f7b615"/>
                </a:solidFill>
                <a:uFillTx/>
                <a:latin typeface="Tw Cen MT"/>
                <a:hlinkClick r:id="rId2"/>
              </a:rPr>
              <a:t>www.timeforkids.com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dd804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ddc3"/>
                </a:solidFill>
                <a:latin typeface="Tw Cen MT"/>
              </a:rPr>
              <a:t>Current Events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438" name="Picture 6" descr="C:\Users\Gabby\AppData\Local\Microsoft\Windows\Temporary Internet Files\Content.IE5\S8SF7BLE\MP900433193[1].jpg"/>
          <p:cNvPicPr/>
          <p:nvPr/>
        </p:nvPicPr>
        <p:blipFill>
          <a:blip r:embed="rId3"/>
          <a:stretch/>
        </p:blipFill>
        <p:spPr>
          <a:xfrm>
            <a:off x="4419720" y="3276720"/>
            <a:ext cx="472428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4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Science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15720" indent="-3157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f7b615"/>
                </a:solidFill>
                <a:uFillTx/>
                <a:latin typeface="Tw Cen MT"/>
                <a:hlinkClick r:id="rId1"/>
              </a:rPr>
              <a:t>www.hhmi.org/coolscience/forkids   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3240" indent="-2700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ddc3"/>
                </a:solidFill>
                <a:latin typeface="Tw Cen MT"/>
              </a:rPr>
              <a:t>Biology Labs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lvl="1" marL="633240" indent="-2700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marL="315720" indent="-3157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f7b615"/>
                </a:solidFill>
                <a:uFillTx/>
                <a:latin typeface="Tw Cen MT"/>
                <a:hlinkClick r:id="rId2"/>
              </a:rPr>
              <a:t>www.funology.com/laboratory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3240" indent="-2700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ddc3"/>
                </a:solidFill>
                <a:latin typeface="Tw Cen MT"/>
              </a:rPr>
              <a:t>Online Science Labs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lvl="1" marL="633240" indent="-2700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lvl="1" marL="633240" indent="-2700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f7b615"/>
                </a:solidFill>
                <a:uFillTx/>
                <a:latin typeface="Tw Cen MT"/>
                <a:hlinkClick r:id="rId3"/>
              </a:rPr>
              <a:t>www.sciencenewsforkids.org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587520" indent="-3157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ddc3"/>
                </a:solidFill>
                <a:latin typeface="Tw Cen MT"/>
              </a:rPr>
              <a:t>Science News/Current Events (Great for Enrichment)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lvl="2" marL="587520" indent="-3157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w Cen MT"/>
            </a:endParaRPr>
          </a:p>
          <a:p>
            <a:pPr marL="315720" indent="-3157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3240" indent="-2700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441" name="Picture 3" descr="C:\Program Files\Microsoft Office\MEDIA\CAGCAT10\j0305257.wmf"/>
          <p:cNvPicPr/>
          <p:nvPr/>
        </p:nvPicPr>
        <p:blipFill>
          <a:blip r:embed="rId4"/>
          <a:stretch/>
        </p:blipFill>
        <p:spPr>
          <a:xfrm>
            <a:off x="7162920" y="1828800"/>
            <a:ext cx="1676160" cy="26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8" dur="2000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1" dur="2000"/>
                                        <p:tgtEl>
                                          <p:spTgt spid="4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6" dur="2000"/>
                                        <p:tgtEl>
                                          <p:spTgt spid="4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1" dur="2000"/>
                                        <p:tgtEl>
                                          <p:spTgt spid="4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6" dur="2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1" dur="2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Extra Fun!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45720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www.tinyurl.com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www.brainpop.com 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www.internet4classrooms.com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www.teacherspayteachers.com  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www.watchknowlearn.org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444" name="Picture 4" descr="C:\Documents and Settings\afaith\Local Settings\Temporary Internet Files\Content.IE5\QSOAOXGX\MC900282176[1].wmf"/>
          <p:cNvPicPr/>
          <p:nvPr/>
        </p:nvPicPr>
        <p:blipFill>
          <a:blip r:embed="rId1"/>
          <a:stretch/>
        </p:blipFill>
        <p:spPr>
          <a:xfrm>
            <a:off x="6629400" y="4724280"/>
            <a:ext cx="1030320" cy="18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02 E">
                                      <p:cBhvr>
                                        <p:cTn id="217" dur="2000" fill="hold"/>
                                        <p:tgtEl>
                                          <p:spTgt spid="4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2" dur="2000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5" dur="2000"/>
                                        <p:tgtEl>
                                          <p:spTgt spid="4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8" dur="2000"/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1" dur="2000"/>
                                        <p:tgtEl>
                                          <p:spTgt spid="4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4" dur="2000"/>
                                        <p:tgtEl>
                                          <p:spTgt spid="4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Questions?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ddc3"/>
                </a:solidFill>
                <a:latin typeface="Tw Cen MT"/>
              </a:rPr>
              <a:t>Amy Krier: </a:t>
            </a: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akrier@stjoeschool.com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ddc3"/>
                </a:solidFill>
                <a:latin typeface="Tw Cen MT"/>
              </a:rPr>
              <a:t>Gabby Francis: </a:t>
            </a: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gfrancis@stjoeschool.com 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447" name="Picture 4" descr="C:\Documents and Settings\afaith\Local Settings\Temporary Internet Files\Content.IE5\A3HW23PN\MP900390083[1].jpg"/>
          <p:cNvPicPr/>
          <p:nvPr/>
        </p:nvPicPr>
        <p:blipFill>
          <a:blip r:embed="rId1"/>
          <a:stretch/>
        </p:blipFill>
        <p:spPr>
          <a:xfrm>
            <a:off x="3505320" y="3809880"/>
            <a:ext cx="1904760" cy="26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1" dur="2000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4" dur="2000"/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Math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f7b615"/>
                </a:solidFill>
                <a:uFillTx/>
                <a:latin typeface="Tw Cen MT"/>
                <a:hlinkClick r:id="rId1"/>
              </a:rPr>
              <a:t>www.mathplayground.com</a:t>
            </a: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 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20280" indent="-2646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ddc3"/>
                </a:solidFill>
                <a:latin typeface="Tw Cen MT"/>
              </a:rPr>
              <a:t>Great videos and games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f7b615"/>
                </a:solidFill>
                <a:uFillTx/>
                <a:latin typeface="Tw Cen MT"/>
                <a:hlinkClick r:id="rId2"/>
              </a:rPr>
              <a:t>www.carrotsticks.com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20280" indent="-2646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ddc3"/>
                </a:solidFill>
                <a:latin typeface="Tw Cen MT"/>
              </a:rPr>
              <a:t>Great to review math facts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lvl="1" marL="620280" indent="-2646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ddc3"/>
                </a:solidFill>
                <a:latin typeface="Tw Cen MT"/>
              </a:rPr>
              <a:t>Students compete against one another to solve problems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f7b615"/>
                </a:solidFill>
                <a:uFillTx/>
                <a:latin typeface="Tw Cen MT"/>
                <a:hlinkClick r:id="rId3"/>
              </a:rPr>
              <a:t>www.coolmath-games.com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f7b615"/>
                </a:solidFill>
                <a:uFillTx/>
                <a:latin typeface="Tw Cen MT"/>
                <a:hlinkClick r:id="rId4"/>
              </a:rPr>
              <a:t>www.ixl.com</a:t>
            </a: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 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20280" indent="-2646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ddc3"/>
                </a:solidFill>
                <a:latin typeface="Tw Cen MT"/>
              </a:rPr>
              <a:t>Extra practice activities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396" name="Picture 4" descr="C:\Users\Gabby\AppData\Local\Microsoft\Windows\Temporary Internet Files\Content.IE5\JEN381JC\MC900130271[1].wmf"/>
          <p:cNvPicPr/>
          <p:nvPr/>
        </p:nvPicPr>
        <p:blipFill>
          <a:blip r:embed="rId5"/>
          <a:stretch/>
        </p:blipFill>
        <p:spPr>
          <a:xfrm>
            <a:off x="6553080" y="1828800"/>
            <a:ext cx="182880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Religion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5335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f7b615"/>
                </a:solidFill>
                <a:uFillTx/>
                <a:latin typeface="Tw Cen MT"/>
                <a:hlinkClick r:id="rId1"/>
              </a:rPr>
              <a:t>http://www.woodlands-junior.kent.sch.uk/customs/Xmas/calendar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ddc3"/>
                </a:solidFill>
                <a:latin typeface="Tw Cen MT"/>
              </a:rPr>
              <a:t>Interactive Advent Calendar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www.loyolapress.com 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ddc3"/>
                </a:solidFill>
                <a:latin typeface="Tw Cen MT"/>
              </a:rPr>
              <a:t>3 Minute Retreats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ddc3"/>
                </a:solidFill>
                <a:latin typeface="Tw Cen MT"/>
              </a:rPr>
              <a:t>Great ideas for seasonal activities 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f7b615"/>
                </a:solidFill>
                <a:uFillTx/>
                <a:latin typeface="Tw Cen MT"/>
                <a:hlinkClick r:id="rId2"/>
              </a:rPr>
              <a:t>www.cptryon.org/prayer/child/stations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ddc3"/>
                </a:solidFill>
                <a:latin typeface="Tw Cen MT"/>
              </a:rPr>
              <a:t>Stations of the Cross for students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399" name="il_fi" descr="http://t2.gstatic.com/images?q=tbn:ANd9GcTAtkLuSKU-cR6zXgVCojNV8YykozEg36ox7EsXWhJmW32Vh8xa9943p1c"/>
          <p:cNvPicPr/>
          <p:nvPr/>
        </p:nvPicPr>
        <p:blipFill>
          <a:blip r:embed="rId3"/>
          <a:stretch/>
        </p:blipFill>
        <p:spPr>
          <a:xfrm>
            <a:off x="6858000" y="2819520"/>
            <a:ext cx="1447920" cy="18288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Language Arts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80440" indent="-2804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f7b615"/>
                </a:solidFill>
                <a:uFillTx/>
                <a:latin typeface="Tw Cen MT"/>
                <a:hlinkClick r:id="rId1"/>
              </a:rPr>
              <a:t>www.kerpoof.com</a:t>
            </a: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 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562680" indent="-2401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ddc3"/>
                </a:solidFill>
                <a:latin typeface="Tw Cen MT"/>
              </a:rPr>
              <a:t>Great for creative writing exercises 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lvl="1" marL="562680" indent="-2401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280440" indent="-2804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f7b615"/>
                </a:solidFill>
                <a:uFillTx/>
                <a:latin typeface="Tw Cen MT"/>
                <a:hlinkClick r:id="rId2"/>
              </a:rPr>
              <a:t>www.quizlet.com</a:t>
            </a: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  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marL="280440" indent="-280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marL="280440" indent="-2804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www.spellingcity.com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562680" indent="-2401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ddc3"/>
                </a:solidFill>
                <a:latin typeface="Tw Cen MT"/>
              </a:rPr>
              <a:t>Wonderful sites for studying vocabulary 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lvl="1" marL="562680" indent="-2401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ddc3"/>
                </a:solidFill>
                <a:latin typeface="Tw Cen MT"/>
              </a:rPr>
              <a:t>	</a:t>
            </a:r>
            <a:r>
              <a:rPr b="0" lang="en-US" sz="2600" spc="-1" strike="noStrike">
                <a:solidFill>
                  <a:srgbClr val="ebddc3"/>
                </a:solidFill>
                <a:latin typeface="Tw Cen MT"/>
              </a:rPr>
              <a:t>in any subject area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lvl="1" marL="562680" indent="-2401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marL="280440" indent="-280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	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402" name="Picture 6" descr="C:\Users\Gabby\AppData\Local\Microsoft\Windows\Temporary Internet Files\Content.IE5\48V8CTUL\MC900357981[1].wmf"/>
          <p:cNvPicPr/>
          <p:nvPr/>
        </p:nvPicPr>
        <p:blipFill>
          <a:blip r:embed="rId3"/>
          <a:stretch/>
        </p:blipFill>
        <p:spPr>
          <a:xfrm>
            <a:off x="6477120" y="2209680"/>
            <a:ext cx="1795320" cy="19051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4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4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4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Language Arts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f7b615"/>
                </a:solidFill>
                <a:uFillTx/>
                <a:latin typeface="Tw Cen MT"/>
                <a:hlinkClick r:id="rId1"/>
              </a:rPr>
              <a:t>http://tinyurl.com/askvfs</a:t>
            </a: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 </a:t>
            </a:r>
            <a:r>
              <a:rPr b="0" lang="en-US" sz="2900" spc="-1" strike="noStrike">
                <a:solidFill>
                  <a:srgbClr val="ebddc3"/>
                </a:solidFill>
                <a:latin typeface="Tw Cen MT"/>
              </a:rPr>
              <a:t>(Reading Lady)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ddc3"/>
                </a:solidFill>
                <a:latin typeface="Tw Cen MT"/>
              </a:rPr>
              <a:t>This is a wonderful resource for Readers’ Theater scripts! It also has great ideas for poetry units and creative writing. 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405" name="Picture 7" descr="C:\Users\Gabby\AppData\Local\Microsoft\Windows\Temporary Internet Files\Content.IE5\48V8CTUL\MC900089784[1].wmf"/>
          <p:cNvPicPr/>
          <p:nvPr/>
        </p:nvPicPr>
        <p:blipFill>
          <a:blip r:embed="rId2"/>
          <a:stretch/>
        </p:blipFill>
        <p:spPr>
          <a:xfrm>
            <a:off x="2590920" y="3657600"/>
            <a:ext cx="3819240" cy="28195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" dur="2000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2" dur="2000"/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Oval 3"/>
          <p:cNvSpPr/>
          <p:nvPr/>
        </p:nvSpPr>
        <p:spPr>
          <a:xfrm>
            <a:off x="2971800" y="2286000"/>
            <a:ext cx="2895480" cy="15238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ocabulary Wo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Straight Connector 5"/>
          <p:cNvSpPr/>
          <p:nvPr/>
        </p:nvSpPr>
        <p:spPr>
          <a:xfrm flipV="1">
            <a:off x="5443560" y="1218960"/>
            <a:ext cx="271440" cy="1290600"/>
          </a:xfrm>
          <a:prstGeom prst="line">
            <a:avLst/>
          </a:prstGeom>
          <a:ln w="15840">
            <a:solidFill>
              <a:srgbClr val="5051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Flowchart: Punched Tape 6"/>
          <p:cNvSpPr/>
          <p:nvPr/>
        </p:nvSpPr>
        <p:spPr>
          <a:xfrm>
            <a:off x="5715000" y="0"/>
            <a:ext cx="3429000" cy="2438280"/>
          </a:xfrm>
          <a:prstGeom prst="flowChartPunchedTape">
            <a:avLst/>
          </a:prstGeom>
          <a:solidFill>
            <a:srgbClr val="ff0000"/>
          </a:solidFill>
          <a:ln w="2556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efinition of vocabulary wo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Straight Connector 9"/>
          <p:cNvSpPr/>
          <p:nvPr/>
        </p:nvSpPr>
        <p:spPr>
          <a:xfrm>
            <a:off x="5443560" y="3586320"/>
            <a:ext cx="2214720" cy="757080"/>
          </a:xfrm>
          <a:prstGeom prst="line">
            <a:avLst/>
          </a:prstGeom>
          <a:ln w="9360">
            <a:solidFill>
              <a:srgbClr val="5051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Rounded Rectangle 10"/>
          <p:cNvSpPr/>
          <p:nvPr/>
        </p:nvSpPr>
        <p:spPr>
          <a:xfrm>
            <a:off x="6172200" y="4343400"/>
            <a:ext cx="2971800" cy="2514600"/>
          </a:xfrm>
          <a:prstGeom prst="roundRect">
            <a:avLst>
              <a:gd name="adj" fmla="val 16667"/>
            </a:avLst>
          </a:prstGeom>
          <a:solidFill>
            <a:srgbClr val="53548a"/>
          </a:solidFill>
          <a:ln w="2556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What does the word look like? Use clip art to find an image and insert here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Straight Connector 16"/>
          <p:cNvSpPr/>
          <p:nvPr/>
        </p:nvSpPr>
        <p:spPr>
          <a:xfrm flipH="1" flipV="1">
            <a:off x="3352680" y="1486080"/>
            <a:ext cx="1067040" cy="799920"/>
          </a:xfrm>
          <a:prstGeom prst="line">
            <a:avLst/>
          </a:prstGeom>
          <a:ln w="9360">
            <a:solidFill>
              <a:srgbClr val="5051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Oval Callout 17"/>
          <p:cNvSpPr/>
          <p:nvPr/>
        </p:nvSpPr>
        <p:spPr>
          <a:xfrm>
            <a:off x="0" y="228600"/>
            <a:ext cx="3352680" cy="25146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ff00"/>
          </a:solidFill>
          <a:ln w="2556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 the vocabulary word in an original senten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Straight Connector 22"/>
          <p:cNvSpPr/>
          <p:nvPr/>
        </p:nvSpPr>
        <p:spPr>
          <a:xfrm flipH="1">
            <a:off x="1447560" y="3048120"/>
            <a:ext cx="1523880" cy="1066680"/>
          </a:xfrm>
          <a:prstGeom prst="line">
            <a:avLst/>
          </a:prstGeom>
          <a:ln w="9360">
            <a:solidFill>
              <a:srgbClr val="5051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Explosion 2 23"/>
          <p:cNvSpPr/>
          <p:nvPr/>
        </p:nvSpPr>
        <p:spPr>
          <a:xfrm>
            <a:off x="-152280" y="3586320"/>
            <a:ext cx="3504960" cy="2743200"/>
          </a:xfrm>
          <a:prstGeom prst="irregularSeal2">
            <a:avLst/>
          </a:prstGeom>
          <a:solidFill>
            <a:srgbClr val="ed6fae"/>
          </a:solidFill>
          <a:ln w="2556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ynony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Straight Connector 25"/>
          <p:cNvSpPr/>
          <p:nvPr/>
        </p:nvSpPr>
        <p:spPr>
          <a:xfrm>
            <a:off x="4419720" y="3809880"/>
            <a:ext cx="0" cy="1067040"/>
          </a:xfrm>
          <a:prstGeom prst="line">
            <a:avLst/>
          </a:prstGeom>
          <a:ln w="9360">
            <a:solidFill>
              <a:srgbClr val="5051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Vertical Scroll 27"/>
          <p:cNvSpPr/>
          <p:nvPr/>
        </p:nvSpPr>
        <p:spPr>
          <a:xfrm>
            <a:off x="3378240" y="4686480"/>
            <a:ext cx="2438280" cy="1828800"/>
          </a:xfrm>
          <a:prstGeom prst="verticalScroll">
            <a:avLst>
              <a:gd name="adj" fmla="val 12500"/>
            </a:avLst>
          </a:prstGeom>
          <a:solidFill>
            <a:srgbClr val="08d6cc"/>
          </a:solidFill>
          <a:ln w="2556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tonym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Oval 1"/>
          <p:cNvSpPr/>
          <p:nvPr/>
        </p:nvSpPr>
        <p:spPr>
          <a:xfrm>
            <a:off x="2971800" y="2286000"/>
            <a:ext cx="2895480" cy="152388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dre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Straight Connector 2"/>
          <p:cNvSpPr/>
          <p:nvPr/>
        </p:nvSpPr>
        <p:spPr>
          <a:xfrm flipV="1">
            <a:off x="5443560" y="1218960"/>
            <a:ext cx="135000" cy="1290600"/>
          </a:xfrm>
          <a:prstGeom prst="line">
            <a:avLst/>
          </a:prstGeom>
          <a:ln w="15840">
            <a:solidFill>
              <a:srgbClr val="94b6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Flowchart: Punched Tape 3"/>
          <p:cNvSpPr/>
          <p:nvPr/>
        </p:nvSpPr>
        <p:spPr>
          <a:xfrm>
            <a:off x="5578560" y="0"/>
            <a:ext cx="3429000" cy="2438280"/>
          </a:xfrm>
          <a:prstGeom prst="flowChartPunchedTape">
            <a:avLst/>
          </a:prstGeom>
          <a:solidFill>
            <a:srgbClr val="ff0000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Be afraid or scared o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Straight Connector 4"/>
          <p:cNvSpPr/>
          <p:nvPr/>
        </p:nvSpPr>
        <p:spPr>
          <a:xfrm>
            <a:off x="5443560" y="3586320"/>
            <a:ext cx="1852560" cy="792000"/>
          </a:xfrm>
          <a:prstGeom prst="line">
            <a:avLst/>
          </a:prstGeom>
          <a:ln w="10080">
            <a:solidFill>
              <a:srgbClr val="94b6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Straight Connector 5"/>
          <p:cNvSpPr/>
          <p:nvPr/>
        </p:nvSpPr>
        <p:spPr>
          <a:xfrm flipH="1" flipV="1">
            <a:off x="3352680" y="1486080"/>
            <a:ext cx="1067040" cy="799920"/>
          </a:xfrm>
          <a:prstGeom prst="line">
            <a:avLst/>
          </a:prstGeom>
          <a:ln w="10080">
            <a:solidFill>
              <a:srgbClr val="94b6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Oval Callout 6"/>
          <p:cNvSpPr/>
          <p:nvPr/>
        </p:nvSpPr>
        <p:spPr>
          <a:xfrm>
            <a:off x="0" y="228600"/>
            <a:ext cx="3352680" cy="25146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ff00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When I saw the monster I was filled with drea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Straight Connector 7"/>
          <p:cNvSpPr/>
          <p:nvPr/>
        </p:nvSpPr>
        <p:spPr>
          <a:xfrm flipH="1">
            <a:off x="1447560" y="3048120"/>
            <a:ext cx="1523880" cy="1066680"/>
          </a:xfrm>
          <a:prstGeom prst="line">
            <a:avLst/>
          </a:prstGeom>
          <a:ln w="10080">
            <a:solidFill>
              <a:srgbClr val="94b6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Explosion 2 8"/>
          <p:cNvSpPr/>
          <p:nvPr/>
        </p:nvSpPr>
        <p:spPr>
          <a:xfrm>
            <a:off x="-152280" y="3581280"/>
            <a:ext cx="3504960" cy="2743200"/>
          </a:xfrm>
          <a:prstGeom prst="irregularSeal2">
            <a:avLst/>
          </a:prstGeom>
          <a:solidFill>
            <a:srgbClr val="ed6fae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scared</a:t>
            </a: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Straight Connector 9"/>
          <p:cNvSpPr/>
          <p:nvPr/>
        </p:nvSpPr>
        <p:spPr>
          <a:xfrm>
            <a:off x="4419720" y="3809880"/>
            <a:ext cx="0" cy="1067040"/>
          </a:xfrm>
          <a:prstGeom prst="line">
            <a:avLst/>
          </a:prstGeom>
          <a:ln w="10080">
            <a:solidFill>
              <a:srgbClr val="94b6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Vertical Scroll 10"/>
          <p:cNvSpPr/>
          <p:nvPr/>
        </p:nvSpPr>
        <p:spPr>
          <a:xfrm>
            <a:off x="3352680" y="4610160"/>
            <a:ext cx="2438640" cy="1828800"/>
          </a:xfrm>
          <a:prstGeom prst="verticalScroll">
            <a:avLst>
              <a:gd name="adj" fmla="val 12500"/>
            </a:avLst>
          </a:prstGeom>
          <a:solidFill>
            <a:srgbClr val="08d6cc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fearless</a:t>
            </a: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Rounded Rectangle 11"/>
          <p:cNvSpPr/>
          <p:nvPr/>
        </p:nvSpPr>
        <p:spPr>
          <a:xfrm>
            <a:off x="6299280" y="4114800"/>
            <a:ext cx="2773440" cy="2209680"/>
          </a:xfrm>
          <a:prstGeom prst="roundRect">
            <a:avLst>
              <a:gd name="adj" fmla="val 1666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8" name="Picture 3" descr="C:\Users\pgaletti\AppData\Local\Microsoft\Windows\Temporary Internet Files\Content.IE5\4IOA65W7\MC900139509[1].wmf"/>
          <p:cNvPicPr/>
          <p:nvPr/>
        </p:nvPicPr>
        <p:blipFill>
          <a:blip r:embed="rId1"/>
          <a:stretch/>
        </p:blipFill>
        <p:spPr>
          <a:xfrm>
            <a:off x="6477120" y="4281480"/>
            <a:ext cx="241776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Picture 2" descr=""/>
          <p:cNvPicPr/>
          <p:nvPr/>
        </p:nvPicPr>
        <p:blipFill>
          <a:blip r:embed="rId1"/>
          <a:stretch/>
        </p:blipFill>
        <p:spPr>
          <a:xfrm>
            <a:off x="1112760" y="0"/>
            <a:ext cx="6919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Discussion Time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304560" y="1676160"/>
            <a:ext cx="8467560" cy="445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ddc3"/>
                </a:solidFill>
                <a:latin typeface="Tw Cen MT"/>
              </a:rPr>
              <a:t>Pick two activities and discuss in your groups how they could be useful in your own classroom. 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432" name="Picture 4" descr="C:\Documents and Settings\afaith\Local Settings\Temporary Internet Files\Content.IE5\PXODUQIE\MC900441902[1].wmf"/>
          <p:cNvPicPr/>
          <p:nvPr/>
        </p:nvPicPr>
        <p:blipFill>
          <a:blip r:embed="rId1"/>
          <a:stretch/>
        </p:blipFill>
        <p:spPr>
          <a:xfrm>
            <a:off x="3854520" y="3656160"/>
            <a:ext cx="1781280" cy="210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3" dur="500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7T02:40:29Z</dcterms:created>
  <dc:creator>Lenovo User</dc:creator>
  <dc:description/>
  <dc:language>en-US</dc:language>
  <cp:lastModifiedBy>Gabrielle Francis</cp:lastModifiedBy>
  <dcterms:modified xsi:type="dcterms:W3CDTF">2012-02-16T22:26:00Z</dcterms:modified>
  <cp:revision>61</cp:revision>
  <dc:subject/>
  <dc:title>Teaching the Techie Tweens</dc:title>
</cp:coreProperties>
</file>